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6BA-F28C-4DBA-9B9A-53B592EE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73D-ABF5-4C21-949A-03A05A74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AD7-B4A7-4EFB-A284-D2963514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9B49-91E1-4086-9EFF-E72DB25D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F305-283B-4025-8824-C9D5847F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B512-F1AE-4111-9E1A-CBFC4A1F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6C02-9E2D-4749-A898-3937E470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7A0A-B670-429B-AA36-D6C613C8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CD2C-3EA9-4E35-A5C5-32CF7B3B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9CCC-5026-4368-A6C9-6BCD2495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CF6F-C14F-467F-9F45-DB3D83CF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C439-29C9-4D43-A210-170A2F9E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E6C8-C041-4F38-8DF6-22A5AF94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C87A-F9BC-4722-BA28-687A7690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B3DC-D513-4EF6-99BB-CEF6F0D7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0DB5-E456-4F75-A4C8-DC3B7233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D27D-FCA5-436D-A95D-DD99E874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502D-9C02-4762-BAE2-80D417E0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276-91B2-418F-88E9-E6E031E1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43A-0806-4699-AA43-5EBCF04B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B62-A3EF-48B9-81CB-A79EB0B1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405A-5744-46DA-A33E-7893BBB7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46E-C974-4C73-A23B-1088A7C6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ABB-553F-4C6C-9E30-29F4260B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1DB2-655F-4946-A997-1F2F1CA528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10C9-1082-4F92-ABC4-29264DCB41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DVD’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 advTm="2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Fish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92716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Mammal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92716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Reptil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reating a Tall Ta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92716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John Hen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Johnny Appleseed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aul Bunya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Health &amp; Hygien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Star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the Earth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3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Buddy Learns About Bullyin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9131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the Mo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the Planet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the Su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hristmas Around the World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lection Da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rtin Luther King Da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92716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emorial Day &amp; Veteran’s Da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ative American Lif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arly Settler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merican Independenc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3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ock N’ Learn: Read Along Stori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United States Constitution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frican American Lif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qual Rights for Al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United States Fla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United States Expans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mmigration to the U.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ashington, D.C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ational Observanc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U.S. Songs and Poem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Butterfly Kin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290016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Fossil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king &amp; Reading Map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ps &amp; Glob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5-Adul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torm Stories Collec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253224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4-6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emembering September 11</a:t>
            </a:r>
            <a:r>
              <a:rPr b="0" lang="en-US" sz="32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562200" y="182736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4-8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Gods of Olympus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4-8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seus &amp; the Minotau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92716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3-Adult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rch of the Pengui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85120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Pre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 Bug’s Lif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589200" y="1827360"/>
            <a:ext cx="287496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Natural Resourc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Weathering and Eros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Amphibians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Animal Adapt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Bird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13:16:08Z</dcterms:created>
  <dc:creator>Kristin Stanford</dc:creator>
  <dc:description/>
  <dc:language>en-US</dc:language>
  <cp:lastModifiedBy>jglidden</cp:lastModifiedBy>
  <dcterms:modified xsi:type="dcterms:W3CDTF">2009-09-02T15:27:31Z</dcterms:modified>
  <cp:revision>11</cp:revision>
  <dc:subject/>
  <dc:title>DVD’s recently purchase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